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43A-030F-4019-9068-93D36A74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C64-1E2A-4687-B2F9-2F0FA757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D58-81EF-4E74-B5F7-F94C2598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DA0-543B-4BB2-9D27-7CDEF8DB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A09-C8EE-42A1-A214-2174DEEE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08DD-8556-49AB-B986-EE6A5D8A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715E-9E9F-4011-A8C0-6E593F7F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FE48-74FF-4122-94EE-0FB3FF63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90A-07EB-4CE4-8CDD-2F43D29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8C76-7457-4F56-B2D1-46B6C5B6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31B-43AB-4849-BE06-8DD487F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F3A-6FEC-4AE6-8DF4-67901225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2BB2-961C-4CD5-83EB-8AD3D02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5779-FC81-43E0-BFA2-2F1E660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C0B-06D2-468E-BB7B-8937BA0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E190-1356-43A6-B65C-C68DBA93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5085-3F11-4E44-9ACC-94B94C6E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A17-E597-4398-A42D-31EA23F3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F42-F5B1-480E-8CB1-59D7A206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061-DE17-46A7-B924-119C991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8C7-6560-4037-AD73-4736D5BC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C95B-515A-4F53-94AA-AA0639EF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BFB-653B-4100-906D-AE948339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C63-C9EB-4004-B4D5-F18BA2E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36F4-F127-492B-AEB2-96DF207E2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7461-9712-4FA5-8AC7-A1C5C0DA8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ec. 37-3 Tobacco and the Respiratory Syste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LARGE%20PHOTOS_cigerettes"/>
          <p:cNvPicPr/>
          <p:nvPr/>
        </p:nvPicPr>
        <p:blipFill>
          <a:blip r:embed="rId1"/>
          <a:stretch/>
        </p:blipFill>
        <p:spPr>
          <a:xfrm>
            <a:off x="457200" y="2286000"/>
            <a:ext cx="4876920" cy="3255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Cj02871050000[1]"/>
          <p:cNvPicPr/>
          <p:nvPr/>
        </p:nvPicPr>
        <p:blipFill>
          <a:blip r:embed="rId2"/>
          <a:stretch/>
        </p:blipFill>
        <p:spPr>
          <a:xfrm>
            <a:off x="5813280" y="2362320"/>
            <a:ext cx="285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Respiratory Diseases Associated with Smo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Bronch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Emphys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Lung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ronchitis / Emphys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ronchit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Bronchi become swollen and clogged with mu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physem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loss of elasticity in the tissue of the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veoli lose elasticity and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illaries that surround alveoli break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17099"/>
          <p:cNvPicPr/>
          <p:nvPr/>
        </p:nvPicPr>
        <p:blipFill>
          <a:blip r:embed="rId1"/>
          <a:stretch/>
        </p:blipFill>
        <p:spPr>
          <a:xfrm>
            <a:off x="0" y="1295280"/>
            <a:ext cx="4675320" cy="3740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emphysema-picture"/>
          <p:cNvPicPr/>
          <p:nvPr/>
        </p:nvPicPr>
        <p:blipFill>
          <a:blip r:embed="rId2"/>
          <a:stretch/>
        </p:blipFill>
        <p:spPr>
          <a:xfrm>
            <a:off x="4800600" y="1295280"/>
            <a:ext cx="44956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ung Can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 Nearly 160,000 people in U.S get lung cancer each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deadly because it spreads easily and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thers Effects of Smo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onstricts the blood vessels, causes heart to work harder resulting in higher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 builds up on artery walls easi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ul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People who smoke have twice the rate of heart disease of nonsmoker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smoking"/>
          <p:cNvPicPr/>
          <p:nvPr/>
        </p:nvPicPr>
        <p:blipFill>
          <a:blip r:embed="rId1"/>
          <a:stretch/>
        </p:blipFill>
        <p:spPr>
          <a:xfrm>
            <a:off x="167652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tobacco%20facts%20page"/>
          <p:cNvPicPr/>
          <p:nvPr/>
        </p:nvPicPr>
        <p:blipFill>
          <a:blip r:embed="rId1"/>
          <a:stretch/>
        </p:blipFill>
        <p:spPr>
          <a:xfrm>
            <a:off x="304920" y="533520"/>
            <a:ext cx="86868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armful Chemicals 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ound In Tobac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brown, sticky combination of  chemic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icot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timulant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arbon monoxide (CO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poisonous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1760" y="42667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ttle above with the tar collected from 2,000 cigarettes.  If a diluted form of this tar is painted on the skin of mice, 60% of the animals developed cancer of the skin within a ye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bottletar"/>
          <p:cNvPicPr/>
          <p:nvPr/>
        </p:nvPicPr>
        <p:blipFill>
          <a:blip r:embed="rId1"/>
          <a:stretch/>
        </p:blipFill>
        <p:spPr>
          <a:xfrm>
            <a:off x="2514600" y="1395360"/>
            <a:ext cx="4267080" cy="3062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752480" y="3808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752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Nicotin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7" name="Picture 5" descr="Nicotine"/>
          <p:cNvPicPr/>
          <p:nvPr/>
        </p:nvPicPr>
        <p:blipFill>
          <a:blip r:embed="rId1"/>
          <a:stretch/>
        </p:blipFill>
        <p:spPr>
          <a:xfrm>
            <a:off x="304920" y="1828800"/>
            <a:ext cx="396720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arb_mon"/>
          <p:cNvPicPr/>
          <p:nvPr/>
        </p:nvPicPr>
        <p:blipFill>
          <a:blip r:embed="rId2"/>
          <a:stretch/>
        </p:blipFill>
        <p:spPr>
          <a:xfrm>
            <a:off x="5029200" y="1828800"/>
            <a:ext cx="394020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5181480" y="8380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Carbon Monox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ffects of Smoking on the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and carbon monoxide paralyze the ci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 and particles stick to the windpipe or gets stuck in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top of the irritation, mucus production is incr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s coughing h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lungs2"/>
          <p:cNvPicPr/>
          <p:nvPr/>
        </p:nvPicPr>
        <p:blipFill>
          <a:blip r:embed="rId1"/>
          <a:stretch/>
        </p:blipFill>
        <p:spPr>
          <a:xfrm>
            <a:off x="1295280" y="609480"/>
            <a:ext cx="716292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ffects of Smoking on the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of the respiratory system sw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er to brea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 accumulates and can pass into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y causing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6:12:53Z</dcterms:created>
  <dc:creator>udsd</dc:creator>
  <dc:description/>
  <dc:language>en-US</dc:language>
  <cp:lastModifiedBy>Preferred Customer</cp:lastModifiedBy>
  <dcterms:modified xsi:type="dcterms:W3CDTF">2010-02-23T09:00:03Z</dcterms:modified>
  <cp:revision>9</cp:revision>
  <dc:subject/>
  <dc:title>Respiration</dc:title>
</cp:coreProperties>
</file>